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4BAD0-F4AC-4942-93E5-5282D2A4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E8E2A-5F89-4B3C-AD02-E52DEDEC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A972F-58A0-4883-96A3-E134AC80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3F18F-3CDB-4BA7-B787-FEBC3212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B49A-FA50-4695-A9C5-FC59D0AA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9355-BE08-41E3-A9E8-1B166888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F0C5-B14C-4DC1-AD95-0EAA64C5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5904-98B2-4064-9A6C-E996F9E4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F246-CD32-42DA-99BD-A32F26E1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3873-1AA5-49E0-91FB-FD3F37CD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92DF-FCF7-4F40-A1D0-0384F46A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2821C-4C06-43F8-91CA-7A8CF4B3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06D3-4B9C-4283-989B-FF62AAD0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BCD1-CBD9-47B6-95D9-73D0F404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159B-E6F7-4981-A6DB-C03A78B7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2FEE-B757-48C2-85C4-B176926D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C27D-A6C0-4E38-AFE2-B0415AD4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05455-C526-47FC-AD1D-D2F6C8A1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0FC3C-FA5E-4D21-8B08-DDAFEFD7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A9C76-3AD3-4A9A-849A-BB055C0F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91AED-FA18-45C8-9707-4C156662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AF513-F86A-4298-A39E-CAAD4479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E4A35-C84B-4157-AC08-C9B40A93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4A58A-7AD3-4ED2-83F6-70E7B463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00E90-3B0A-46E4-B2EE-657DFD40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E0ACD-F8CC-4BFE-B71F-DC57AAAB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877BE-A21F-4468-9CF6-01E3B03D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F37E1-BDB5-4EBE-88A2-A2A21EB4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ABB73-7998-4191-B550-29E0829C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EC7EA-C2B6-40A9-AD3A-7A466E45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CBCD9-5781-40D7-9945-DF96B9A7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1BC8B-E3F2-448B-ADB1-46561A17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0AB32-8BC1-4EB2-9882-B1C5AE02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19D6-071C-4A06-9BC3-EBC288C7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CDA4E-9F50-4F24-AA61-30F91A66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CCD2A-F56B-46E4-84A0-FF1B12A7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C86E0-02EE-45DF-9008-24745F7B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E741A-A92C-4CFF-B99C-4150C890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58450-3864-429D-BC72-3B3940E2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6EFA0-313A-4591-9990-C721E0BD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68A70-407C-4204-83B5-C03CBD2F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28893-8E36-4406-8FA0-E05D6ED5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53364-B541-42DE-99CE-EB7C69A3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5946-0C42-4073-9671-ED127617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3F56A-B550-4F39-B89D-7043C56D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09A71-7E4F-4454-9689-B1290FDA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D9B0A-9FC5-46AE-8786-7ABF3A92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A73E7-3FCB-467A-A7CB-3812863B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91B8-D0FB-402E-A43E-F30130C8521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6C71-4F9D-47BE-B13F-A800B1E735C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2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3223-36AC-46FF-8F29-A346C2E48F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09AF-CD30-44B7-B988-2B003EA30A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Georgia"/>
              </a:rPr>
              <a:t>Computer Software engine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0" y="2133360"/>
            <a:ext cx="640080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6c03"/>
                </a:solidFill>
                <a:latin typeface="Arial"/>
              </a:rPr>
              <a:t>By: Eric Mu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676520" y="38862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629400" y="236232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620120" y="304920"/>
            <a:ext cx="121896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2344E-006 L 0.00833 0.49376 E">
                                      <p:cBhvr>
                                        <p:cTn id="6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ffff00"/>
                </a:solidFill>
                <a:latin typeface="Tahoma"/>
              </a:rPr>
              <a:t>What is This?</a:t>
            </a:r>
            <a:endParaRPr b="0" lang="en-US" sz="7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uter engineers make programs to run a compu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programming programmers tell a computer how to function with special co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ve to fix any bug or problem that may happ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also must have good coding skills (how you fix problems and program the comput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17680" cy="14479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09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What Courses Do You Need To Take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employers like to employees with 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HELOR’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gree for this jo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Common Degree’s are- Computer Science, Software Engineering, and Computer Syst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724280" y="3809880"/>
            <a:ext cx="4419720" cy="3048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523880" y="4572000"/>
            <a:ext cx="1676520" cy="1752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What is the pay (computer applications software) ??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2004 people made between $59,130 and $92,130. lowest paid made less than about $46,000 higher paid made more than about $114,0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581280" y="4038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95280" y="4114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4 0.042 -0.0213 C 0.048 -0.0213 0.059 -0.00399 0.064 -0.00399 C 0.071 -0.00399 0.078 -0.00932 0.091 -0.00932 L 0.1 -0.2157 L 0.11 0.03329 L 0.122 0 L 0.132 -0.00932 L 0.156 -0.00133 C 0.167 -0.00533 0.176 -0.02264 0.187 -0.02929 C 0.191 -0.03062 0.2 -0.03196 0.206 -0.02929 C 0.212 -0.02663 0.217 -0.00799 0.219 -0.00666 C 0.222 -0.00133 0.229 -0.00666 0.233 -0.00399 L 0.239 0 L 0.25 0 E">
                                      <p:cBhvr>
                                        <p:cTn id="78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6.8331E-006 C -0.04479 -0.00394 -0.05035 -0.01249 -0.07986 -6.8331E-006 C -0.10782 -0.01156 -0.13663 -0.00024 -0.16441 0.006 C -0.19722 -0.00047 -0.18629 0.00485 -0.19097 -0.05618 C -0.18941 -0.09201 -0.18785 -0.12437 -0.19323 -0.15974 C -0.18872 -0.18933 -0.18768 -0.22007 -0.17986 -0.2485 C -0.17413 -0.26954 -0.15521 -0.28595 -0.14219 -0.29867 C -0.12483 -0.31554 -0.11216 -0.32987 -0.09792 -0.35206 C -0.09097 -0.37842 -0.06528 -0.36224 -0.04879 -0.35507 C -0.04445 -0.35322 -0.03542 -0.34906 -0.03542 -0.34906 C -0.03021 -0.3442 -0.0257 -0.33796 -0.01997 -0.33426 C -0.01441 -0.33057 -0.00782 -0.33149 -0.00209 -0.32825 C 0.0085 -0.32224 0.00764 -0.32155 0.01788 -0.31069 C 0.02187 -0.29474 0.02743 -0.30121 0.03767 -0.29289 C 0.06441 -0.27162 0.0585 -0.27624 0.08003 -0.25151 C 0.08021 -0.25082 0.08281 -0.23071 0.08455 -0.2277 C 0.08906 -0.22007 0.10434 -0.21591 0.10434 -0.21591 C 0.11302 -0.1995 0.12743 -0.19464 0.13767 -0.18031 C 0.13958 -0.14286 0.13611 -0.12969 0.15121 -0.10357 C 0.15364 -0.08808 0.15816 -0.07698 0.14444 -0.07097 C 0.13455 -0.05317 0.12691 -0.04069 0.11788 -0.02058 C 0.11597 -0.01619 0.11041 -0.01873 0.10677 -0.01758 C 0.10434 -0.01688 0.10225 -0.01549 0.1 -0.0148 C 0.09566 -0.01365 0.09114 -0.01295 0.0868 -0.0118 C 0.0835 -0.01087 0.08073 -0.00995 0.07778 -0.00879 C 0.07326 -0.00694 0.06458 -0.00278 0.06458 -0.00278 C 0.0533 0.01178 0.04861 0.00947 0.03125 0.01201 C -0.00452 0.00878 -0.00538 0.02311 -5.55556E-007 -6.8331E-006 Z">
                                      <p:cBhvr>
                                        <p:cTn id="82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What does it pay (Computer software engineer) ??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de between $63,000 and $92,0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er paid made less than about $50,0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er paid made over $118,0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38080" y="4038480"/>
            <a:ext cx="1587600" cy="168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543800" y="68580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4495680" y="4038480"/>
            <a:ext cx="1795680" cy="1833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ahoma"/>
              </a:rPr>
              <a:t>How many jobs were there last year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ir were only about 800,000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ut 30% worked in computer system desig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ites Use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WW.Bls.gov/K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8:34:37Z</dcterms:created>
  <dc:creator>eric.musser</dc:creator>
  <dc:description/>
  <dc:language>en-US</dc:language>
  <cp:lastModifiedBy>eric.musser</cp:lastModifiedBy>
  <dcterms:modified xsi:type="dcterms:W3CDTF">2008-05-02T13:36:47Z</dcterms:modified>
  <cp:revision>11</cp:revision>
  <dc:subject/>
  <dc:title>Computer Software engineer</dc:title>
</cp:coreProperties>
</file>